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262-D7EF-4A79-8C61-E08AC732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238-B5FB-4ACC-8D4A-459747BC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531-53D9-4F4F-BC66-C81C976A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227-A45E-40FE-A7AB-5613FCB2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1C3-2CA2-4274-89A7-731ACFDF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1BD-8D84-4652-A2A3-A39FAC72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A84-018A-42FE-B0CD-5FD47FF6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FD8-890D-4C10-9C79-781D9392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58F-34E8-4257-9BD1-8815B68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4AC-942A-4331-802B-5CF034C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AA5-B601-412E-A624-71CF0930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7D2-CB1E-4284-8B39-89920DEA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97EC-57FF-4805-BCB1-58C45C8A4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e King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Kingdom, what did the merchants find at the Mediterranean, and what did they use it for? Give two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iddle Kingdom, what did Pharaoh’s spend the nation’s wealth on, and instead of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as the marking point of the New Kingdom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as buried with very precious things? What did those things teach us a lot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id the Old Kingdom Pharaoh’s keep peace with, and what else did they do wit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45:38Z</dcterms:created>
  <dc:creator>Default</dc:creator>
  <dc:description/>
  <dc:language>en-US</dc:language>
  <cp:lastModifiedBy>Default</cp:lastModifiedBy>
  <dcterms:modified xsi:type="dcterms:W3CDTF">2009-01-14T18:39:14Z</dcterms:modified>
  <cp:revision>2</cp:revision>
  <dc:subject/>
  <dc:title>Test</dc:title>
</cp:coreProperties>
</file>